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548C-8586-4C62-BBBF-92FFEDAE3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C398-7BC1-4B40-AD23-050A09233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757C-7322-44FB-8B85-091E2C575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82B0-A00E-4762-8354-629375FA0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Present arguments for and against considering intelligence as on general mental 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C8A5-FCD0-4034-A40E-76975F14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A49F-396B-4806-ADD6-A49931EE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916-85E4-4F0C-A5FB-01FAB1BA7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975A-B1B7-4B10-9AA9-AB33B8D4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Compare Gardner’s and Sternberg's theories of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091-A96E-4976-BD01-230364638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78B3-0339-4707-ABE6-CFDEDA216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1F5A-ECF5-4EB2-872F-637FEBDA6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0EE3-CFFB-4D11-93B3-9286C207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four aspects of emotional intelligence, and discuss criticisms of this con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1D6B-1D47-4657-94C4-74002DE06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1540-BD11-477D-8970-51328C57E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C09D-50EF-4B0E-BEBB-EDC291E83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D053-6351-416E-9EC7-763085E2B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Identify the factors associated with creativity, and describe the relationship between creativity and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525D-DE5D-40E4-BF62-0C834A18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relationship between intelligence and brain anatom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5A1-EB87-4980-A7CF-CF8E0EDB4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findings on the correlations between perceptual speed, neural processing speed, and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A99E-4590-495C-B7BE-642BFDADE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fin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elligence tes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and discuss the history of intelligence t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60D2-C658-486A-B0D1-5D0525A7B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1B61-9F12-465A-89F9-550FD3A38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CD7A-7262-47AC-B55B-85734F7F1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tinguish between aptitude and achievement tests, and describe the modern test of mental abilities, such as the W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CD2B-7FD8-4226-BA3F-F02F46261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7869-71E9-43B4-AFCB-CFC272A9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B548-0B0D-4CCE-96C7-A53EC683A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1806-39D7-414E-AEA5-63229E9CB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B463-2063-4D37-9C48-A064F7773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importance of standardizing psychological tests, and describe the distribution of scores in a normal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254-06DE-439A-98B9-5350C055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05F-EEBB-4B81-9B37-13C44B99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A469-CCCB-48D2-BC4B-CDB14B72D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Explain what it means to say that a test 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eliab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57A3-BA4E-466C-B8CC-8AE46CEED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Explain what it means to say that a test 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li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describe two types of valid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7037-81DC-4D45-8C92-6C90AAE2A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CFC-8D71-4089-BA39-B0D5269CA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tability of intelligence scores over the life sp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923-DA4C-4D39-B4E8-92EEA830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two extremes of the normal distribution of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3F31-8584-4157-9E89-536D0B8F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3846-49F2-4081-9B77-348C801CB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F577-8A8C-44C5-8BDC-6A50CA25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FA2D-5D5E-468A-A83F-442583640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EDA7-CFF4-41F1-B064-CA16FD9C1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evidence for the genetic contribution to individual intelligence, and explain what psychologists mean by the heritability of intellig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DE4B-0EE7-4D6B-8A11-EFFE54455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54CD-AB7B-4422-AB57-3647BDA20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evidence for environmental influences on individual intellig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301F-FE37-43A9-86A7-C6E8BD240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8AA9-3C2E-49E9-B637-29843E45E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C385-A19A-48DE-A0C3-04366320F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E54-8306-4E3D-9E5C-33AD7ECF1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ethnic similarities and differences in intelligence test scores, and discuss some genetic and environmental factors that might expla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7FBC-CCD3-4E6A-A2C0-471F4AB08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0BC6-D18C-4F4B-BFD0-0CEA755B8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2A0C-65F7-45BE-9F2A-B5AE5584D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DD8B-5F54-4C33-8147-93E627C60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57B8-EB78-453D-B1C5-4D44DC36D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gender differences in 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8113-8D17-4F58-ACCA-39B5AE309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whether intelligence test are biased, and describe the stereotype threat phenomen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0D9F-1214-428A-98BD-7081EEB9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whether intelligence test are biased, and describe the stereotype threat phenomen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8B9C-358E-4112-9DB1-F3A16636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D789-71EF-4749-9C17-57895C901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difficulty of defining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elligenc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explain what it means to “reify intelligence.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6355-A779-4A61-B1E7-015950AED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E7FE-4D5A-4E23-A2A8-813793F9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23C-F20E-4D01-8258-E368FEFC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D28-D88F-4832-82DF-6AA99841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CD8-3902-474F-B048-428F0F6A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5C7-5240-41F4-979B-7A9A39EF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135-F947-4020-A005-37A0A32F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B4B-FA32-4ED6-88B4-87A8CB2E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E60-63A5-454A-9406-FB8710FA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F19-7958-4815-8722-2170CEB7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B04-4C69-4C9A-91AD-5430F398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243-0484-47F3-8896-8F0C8A13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353-E4F0-4EAA-8E66-CB16E1B8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D4E-9648-47A4-BCE3-C3E4DA3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1850-6616-4110-9675-176457AAA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8B5D-F47B-43D4-B9F1-060ECF44C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8th Edition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_oval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CDD8-68B0-414B-A502-A8924A70B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telligence: Ability or Abili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1400" y="1590840"/>
            <a:ext cx="7772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ve you ever thought that since people’s mental abilities are so diverse, it may not be justifiable to label those abilities with only one word,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ntelligence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52320" y="3571920"/>
            <a:ext cx="77914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You may speculate that diverse abilities represent different kinds of intelligences. How can you test this idea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2048-1083-4E2B-A3F2-95585BA57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idea that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ral intelligence (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g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exists comes from the work of Charles Spearman (1863-1945) who helped develop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actor analysi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pproach in statistic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6" name="Picture 6" descr="MyersPsy8e_11UN01"/>
          <p:cNvPicPr/>
          <p:nvPr/>
        </p:nvPicPr>
        <p:blipFill>
          <a:blip r:embed="rId1"/>
          <a:stretch/>
        </p:blipFill>
        <p:spPr>
          <a:xfrm>
            <a:off x="2733840" y="342900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803240" y="6194520"/>
            <a:ext cx="55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thleticism, like intelligence, is many thing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9EC2-4CA9-4BB0-BADE-4A9E5B27E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pearman proposed that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general intelligence (g)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linked to many clusters that can be analyzed by factor analysi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52320" y="3352680"/>
            <a:ext cx="7791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example, people who do well on vocabulary examinations do well on paragraph comprehension examinations, a cluster that helps define verbal intelligence. Other factors include a spatial ability factor, or a reasoning ability facto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6DA-F37E-4ABE-8EC8-E11B007ED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71400" y="1600200"/>
            <a:ext cx="77724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. L. Thurstone, a critic of Spearman, analyzed his subjects NOT on a single scale of general intelligence, but on seven clusters of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primary mental abilities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cluding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481120" y="3581280"/>
            <a:ext cx="4148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d Fl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Verbal Comprehens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patial Abilit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erceptual Speed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umerical Abilit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ductive Reason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A7AE-C04C-4B64-8427-1B9B015B4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71400" y="1600200"/>
            <a:ext cx="77724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ter psychologists analyzed Thurstone’s data and found a weak relationship between these clusters, suggesting some evidence of a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facto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1F7C-CFD5-4322-9740-B950356F7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emporary Intelligence The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ard Gardner (1983, 1999) supports Thurstone’s idea that intelligence comes in multiple forms. Gardner notes that brain damage may diminish one type of ability but not other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2" name="Picture 6" descr="MyersPsy8e_11UN02"/>
          <p:cNvPicPr/>
          <p:nvPr/>
        </p:nvPicPr>
        <p:blipFill>
          <a:blip r:embed="rId1"/>
          <a:stretch/>
        </p:blipFill>
        <p:spPr>
          <a:xfrm>
            <a:off x="1995480" y="3809880"/>
            <a:ext cx="5124600" cy="220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680840" y="6019920"/>
            <a:ext cx="57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with </a:t>
            </a:r>
            <a:r>
              <a:rPr b="0" lang="en-US" sz="2000" spc="-1" strike="noStrike">
                <a:solidFill>
                  <a:srgbClr val="0000ff"/>
                </a:solidFill>
                <a:latin typeface="Palatino Linotype"/>
              </a:rPr>
              <a:t>savant syndrome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excel in abiliti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nrelated to general intelligence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2BC1-F089-42C3-92D4-FB8ABEE34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oward Gard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0880" y="1428840"/>
            <a:ext cx="83822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ardner proposes eight types of intelligences and speculates about a ninth one —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existential intelligence.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istential intelligence is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ability to think about the question of life, death and exist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5" descr="MyersPsy8e_Table"/>
          <p:cNvPicPr/>
          <p:nvPr/>
        </p:nvPicPr>
        <p:blipFill>
          <a:blip r:embed="rId1"/>
          <a:stretch/>
        </p:blipFill>
        <p:spPr>
          <a:xfrm>
            <a:off x="2311560" y="3352680"/>
            <a:ext cx="44892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B41A-1B3C-4F3B-80EA-CA7CEF6A8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obert Sternbe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80880" y="16002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ernberg (1985, 1999, 2003) also agrees with Gardner, but suggests three intelligences rather than eigh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52320" y="3571920"/>
            <a:ext cx="77914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nalytical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is assessed by intelligence test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reative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makes us adapt to novel situations, generating novel idea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actical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is required for everyday tasks (e.g. street smarts)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44C-76D4-4E79-AC43-5327FF6E5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ies: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MyersPsy8e_Table"/>
          <p:cNvPicPr/>
          <p:nvPr/>
        </p:nvPicPr>
        <p:blipFill>
          <a:blip r:embed="rId1"/>
          <a:stretch/>
        </p:blipFill>
        <p:spPr>
          <a:xfrm>
            <a:off x="507960" y="2133720"/>
            <a:ext cx="81280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DA59-DAFF-4E3B-ADC5-96B2C4808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714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intelligence is the ability to perceive, understand, and use emotions (Salovey and colleagues, 2005). The test of emotional intelligence measures overall emotional intelligence and its four component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9CAD-6540-4217-B667-37A1230F3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222408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2" descr="MyersPsy8e_CO_Ch11"/>
          <p:cNvPicPr/>
          <p:nvPr/>
        </p:nvPicPr>
        <p:blipFill>
          <a:blip r:embed="rId1"/>
          <a:stretch/>
        </p:blipFill>
        <p:spPr>
          <a:xfrm>
            <a:off x="380880" y="380880"/>
            <a:ext cx="156240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9B25-593E-4CF5-B20C-3F859A95F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: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523880"/>
          <a:ext cx="7772400" cy="3795840"/>
        </p:xfrm>
        <a:graphic>
          <a:graphicData uri="http://schemas.openxmlformats.org/drawingml/2006/table">
            <a:tbl>
              <a:tblPr/>
              <a:tblGrid>
                <a:gridCol w="3124080"/>
                <a:gridCol w="4648320"/>
              </a:tblGrid>
              <a:tr h="60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mpon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erceiv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cognize emotions in faces, music and st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nderstand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edict emotions, how they change and bl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anag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xpress emotions in different situ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s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tilize emotions to adapt or be cre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0A3B-77FA-451E-A160-55019AB7A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: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0880" y="16002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ardner and others criticize the idea of emotional intelligence and question whether we stretch this idea of intelligence too far when we apply it to our emotion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21EB-3FD2-4318-B285-C8797CC77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 and Crea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6002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eativity is the ability to produce ideas that are both novel and valuable. It correlates somewhat with intellig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380880" y="297180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Expertis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well-developed knowledge base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Imaginative Thinking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he ability to see things in novel way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dventuresome Personal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personality that seeks new experiences rather than following the pack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Intrinsic Motivation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motivation to be creative from withi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 Creative Environment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creative and supportive environment allows creativity to bloom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607D-C3A0-40C0-9F26-C793AC95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s Intelligence Neurologically Measur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80880" y="1600200"/>
            <a:ext cx="8382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cent Studies indicate some correlation (about +.40) between brain size and intelligence. As brain size decreases with age, scores on verbal intelligence tests also decreas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1" name="Picture 5" descr="MyersPsy8e_fig"/>
          <p:cNvPicPr/>
          <p:nvPr/>
        </p:nvPicPr>
        <p:blipFill>
          <a:blip r:embed="rId1"/>
          <a:stretch/>
        </p:blipFill>
        <p:spPr>
          <a:xfrm>
            <a:off x="3040200" y="3429000"/>
            <a:ext cx="3027240" cy="29480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876240" y="6346800"/>
            <a:ext cx="73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Gray matter concentration in people with high intelligence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8C0B-AD7C-458B-9332-4C8C3DFBA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rain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brain functions show that people who score high on intelligence tests perceive stimuli faster, retrieve information from memory quicker, and show faster brain response tim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6" name="Picture 8" descr="MyersPsy8e_fig"/>
          <p:cNvPicPr/>
          <p:nvPr/>
        </p:nvPicPr>
        <p:blipFill>
          <a:blip r:embed="rId1"/>
          <a:stretch/>
        </p:blipFill>
        <p:spPr>
          <a:xfrm>
            <a:off x="2571840" y="3352680"/>
            <a:ext cx="3981240" cy="2694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81040" y="6095880"/>
            <a:ext cx="794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with higher intelligence respond correctly and quickly to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above question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77AE-055C-4380-B395-422FDC051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ssessing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sts define intelligence testing as a method for assessing an individual’s mental aptitudes and comparing them with others using numerical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E49-008B-4105-92DC-3403F1F44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lfred 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66840" y="1600200"/>
            <a:ext cx="4205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fred Binet and his colleague Théodore Simon practiced a more modern form of intelligence testing by developing questions that would predict children’s future progress in the Paris school system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4" name="Picture 4" descr="MyersPsy8e_11UN07"/>
          <p:cNvPicPr/>
          <p:nvPr/>
        </p:nvPicPr>
        <p:blipFill>
          <a:blip r:embed="rId1"/>
          <a:stretch/>
        </p:blipFill>
        <p:spPr>
          <a:xfrm>
            <a:off x="4902120" y="1600200"/>
            <a:ext cx="38466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FEA4-9BDB-4F1B-9CAD-3DA10854F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Lewis Ter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MyersPsy8e_11UN09"/>
          <p:cNvPicPr/>
          <p:nvPr/>
        </p:nvPicPr>
        <p:blipFill>
          <a:blip r:embed="rId1"/>
          <a:stretch/>
        </p:blipFill>
        <p:spPr>
          <a:xfrm>
            <a:off x="4764240" y="1752480"/>
            <a:ext cx="369396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366840" y="1295280"/>
            <a:ext cx="4205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US, Lewis Terman adapted Binet’s test for American school children and named the test the Stanford-Binet Test. The following is the formula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lligence Quotient (IQ)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troduced by William Stern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9" name="Picture 8" descr="IQ Formula"/>
          <p:cNvPicPr/>
          <p:nvPr/>
        </p:nvPicPr>
        <p:blipFill>
          <a:blip r:embed="rId2"/>
          <a:stretch/>
        </p:blipFill>
        <p:spPr>
          <a:xfrm>
            <a:off x="685800" y="5486400"/>
            <a:ext cx="373068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AA91-B878-4F5E-9899-B1DB66619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ptitude and Achievement T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ptitude tes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re intended to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your ability to learn a new skill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chievement tes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re intended to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reflec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what you have already learned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3" name="Picture 4" descr="MyersPsy8e_fig"/>
          <p:cNvPicPr/>
          <p:nvPr/>
        </p:nvPicPr>
        <p:blipFill>
          <a:blip r:embed="rId1"/>
          <a:stretch/>
        </p:blipFill>
        <p:spPr>
          <a:xfrm>
            <a:off x="1911240" y="3124080"/>
            <a:ext cx="529272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D75D-DAF9-4307-BEA5-DAB405B4D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avid Wechs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66840" y="1600200"/>
            <a:ext cx="4205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chsler developed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Wechsler Adult Intelligence Scale (WAIS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later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Wechsler Intelligence Scale for Children (WISC)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intelligence test for preschooler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7" name="Picture 8" descr="MyersPsy8e_11UN10"/>
          <p:cNvPicPr/>
          <p:nvPr/>
        </p:nvPicPr>
        <p:blipFill>
          <a:blip r:embed="rId1"/>
          <a:stretch/>
        </p:blipFill>
        <p:spPr>
          <a:xfrm>
            <a:off x="4983120" y="1600200"/>
            <a:ext cx="3475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ED77-1B5C-48B8-A282-766448FF1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3160" y="1595160"/>
            <a:ext cx="625788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What is Intelligen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One General Ability or Several Specific Abil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lligence and 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Neurologically Measur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8F28-48D2-47D3-8D06-4F25251EB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1912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AIS measures overall intelligence and 11 other aspects related to intelligence that are designed to assess clinical and educational problem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61" name="Picture 6" descr="MyersPsy8e_fig"/>
          <p:cNvPicPr/>
          <p:nvPr/>
        </p:nvPicPr>
        <p:blipFill>
          <a:blip r:embed="rId1"/>
          <a:stretch/>
        </p:blipFill>
        <p:spPr>
          <a:xfrm>
            <a:off x="1743120" y="3048120"/>
            <a:ext cx="566244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DA7-C35E-4A65-9826-4CE5BAB05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rinciples of Test Co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19120" y="16002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a psychological test to be acceptable it must fulfill the following three criteria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867040" y="3200400"/>
            <a:ext cx="337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CC1C-8F74-4CC3-B951-8C7DEA918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andard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ing a test involves administering the test to a representative sample of future test takers in order to establish a basis for meaningful comparison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39A5-EE24-4814-853E-75AAD72B9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ormal Cur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19120" y="1600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ed tests establish a normal distribution of scores on a tested population in a bell-shaped pattern called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ormal cur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72" name="Picture 5" descr="MyersPsy8e_fig"/>
          <p:cNvPicPr/>
          <p:nvPr/>
        </p:nvPicPr>
        <p:blipFill>
          <a:blip r:embed="rId1"/>
          <a:stretch/>
        </p:blipFill>
        <p:spPr>
          <a:xfrm>
            <a:off x="1019160" y="3200400"/>
            <a:ext cx="6186600" cy="33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1131-875C-4529-AA8D-F8A1A48BC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lynn Ef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19120" y="1600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past 60 years, intelligence scores have risen steadily by an average of 27 points.  This  phenomenon is known as the Flynn effec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76" name="Picture 9" descr="MyersPsy8e_fig"/>
          <p:cNvPicPr/>
          <p:nvPr/>
        </p:nvPicPr>
        <p:blipFill>
          <a:blip r:embed="rId1"/>
          <a:stretch/>
        </p:blipFill>
        <p:spPr>
          <a:xfrm>
            <a:off x="671400" y="3200400"/>
            <a:ext cx="77724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DD6-4531-40FB-A65E-BE9694DF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eli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est is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reliabl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when it yields consistent results. To establish reliability researchers establish different procedures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5800" y="34290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Split-half Reliabil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Dividing the test into two equal halves and assessing how consistent the scores are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Reliability using different test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Using different forms of the test to measure consistency between them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est-Retest Reliability: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the same test on two occasions to measure consistency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B4AC-7ED5-47A3-9697-650C5D98E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ali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iability of a test does not ensure validity. Validity of a test refers to what the test is supposed to measure or predic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714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ontent Valid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Refers to the extent a test measures a particular behavior or trait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edictive Valid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Refers to the function of a test in predicting a particular behavior or trait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728C-FAFD-4962-989B-861C76C75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e Dynamics of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19120" y="1752480"/>
            <a:ext cx="8077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oes intelligence remain stable over a lifetime or does it change? Are individuals on the two extremes of the intelligence scale really that different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39EC-E6D8-4689-8480-AB4741457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ability or Chan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lligence scores become stable after about seven years of age. In numerous studies, stability of intelligence scores have been determined (Angoff, 1988; Deary et al., 2004)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1" name="Picture 5" descr="MyersPsy8e_fig"/>
          <p:cNvPicPr/>
          <p:nvPr/>
        </p:nvPicPr>
        <p:blipFill>
          <a:blip r:embed="rId1"/>
          <a:stretch/>
        </p:blipFill>
        <p:spPr>
          <a:xfrm>
            <a:off x="1328760" y="3414600"/>
            <a:ext cx="56246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AEA0-97AE-41D8-95DC-08E80524E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3" name="Picture 7" descr="Intelligence Extremes"/>
          <p:cNvPicPr/>
          <p:nvPr/>
        </p:nvPicPr>
        <p:blipFill>
          <a:blip r:embed="rId1"/>
          <a:stretch/>
        </p:blipFill>
        <p:spPr>
          <a:xfrm>
            <a:off x="2025720" y="3429000"/>
            <a:ext cx="5064120" cy="31701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tremes of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66840" y="1419120"/>
            <a:ext cx="838188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valid intelligence test divides two groups of people into two extremes: the mentally retarded (IQ 70) and individuals with high intelligence (IQ 135). These two groups are significantly differen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A62B-AFFB-48DE-B389-53D89847A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3160" y="1595160"/>
            <a:ext cx="625788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Assessing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Origins of Intelligenc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odern Tests of Mental 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inciples of Test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The Dynamics of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bility or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400" indent="-2556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tremes of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084-1F3F-48B4-B03F-E3FD10211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ntal Retar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tally retarded individuals required constant supervision a few decades ago, but with a supportive family environment and special education they can now care for themselv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99" name="Picture 4" descr="MyersPsy8e_Table"/>
          <p:cNvPicPr/>
          <p:nvPr/>
        </p:nvPicPr>
        <p:blipFill>
          <a:blip r:embed="rId1"/>
          <a:stretch/>
        </p:blipFill>
        <p:spPr>
          <a:xfrm>
            <a:off x="685800" y="3429000"/>
            <a:ext cx="4967280" cy="332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MyersPsy8e_11UN11 copy"/>
          <p:cNvPicPr/>
          <p:nvPr/>
        </p:nvPicPr>
        <p:blipFill>
          <a:blip r:embed="rId2"/>
          <a:stretch/>
        </p:blipFill>
        <p:spPr>
          <a:xfrm>
            <a:off x="6019920" y="3429000"/>
            <a:ext cx="23400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5A9-0C85-4A61-83B8-B36B5B97C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igh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ntrary to popular belief, people with high  intelligence test scores tend to be healthy, well adjusted, and unusually successful academically.  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04" name="Picture 6" descr="MyersPsy8e_11UN12"/>
          <p:cNvPicPr/>
          <p:nvPr/>
        </p:nvPicPr>
        <p:blipFill>
          <a:blip r:embed="rId1"/>
          <a:stretch/>
        </p:blipFill>
        <p:spPr>
          <a:xfrm>
            <a:off x="3157560" y="3429000"/>
            <a:ext cx="2800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579B-A581-4492-88F8-CCFAE331E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etic and Environmental Influences on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 other topic in psychology is so passionately followed as the one that asks the question, “Is intelligence due to genetics or environment?”  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11BE-4776-48C2-81D4-209DF8F81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5" descr="MyersPsy8e_fig"/>
          <p:cNvPicPr/>
          <p:nvPr/>
        </p:nvPicPr>
        <p:blipFill>
          <a:blip r:embed="rId1"/>
          <a:stretch/>
        </p:blipFill>
        <p:spPr>
          <a:xfrm>
            <a:off x="1004760" y="3124080"/>
            <a:ext cx="5791320" cy="3681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twins, family members, and adopted children together support the idea that there is a significant genetic contribution to intellig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9BF4-D779-4B87-BD80-F3050E328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doption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66840" y="16002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opted children show a marginal correlation in verbal ability to their adopted parent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15" name="Picture 6" descr="MyersPsy8e_fig"/>
          <p:cNvPicPr/>
          <p:nvPr/>
        </p:nvPicPr>
        <p:blipFill>
          <a:blip r:embed="rId1"/>
          <a:stretch/>
        </p:blipFill>
        <p:spPr>
          <a:xfrm>
            <a:off x="700200" y="2819520"/>
            <a:ext cx="772452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BBC9-343C-4168-8028-2144B82A2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nvironmental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6684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twins and adopted children also show the following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80880" y="2590920"/>
            <a:ext cx="8382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aternal twins raised together tend to show similarity in intelligence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dentical twins raised apart show slightly less similarity in their intelligence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C783-56A5-4F0D-8367-7079A0201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arly Intervention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66840" y="1600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neglect from caregivers leads children to develop a lack of personal control over the environment, and it impoverishes their intellig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23" name="Picture 5" descr="MyersPsy8e_11UN25"/>
          <p:cNvPicPr/>
          <p:nvPr/>
        </p:nvPicPr>
        <p:blipFill>
          <a:blip r:embed="rId1"/>
          <a:stretch/>
        </p:blipFill>
        <p:spPr>
          <a:xfrm>
            <a:off x="2629080" y="3429000"/>
            <a:ext cx="3857400" cy="2629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1242360" y="604188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manian orphans with minima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human interaction are delayed in their development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4E9F-3F33-4913-A4C9-FC45518C9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chooling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66840" y="1600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ooling is an experience that pays dividends, which is reflected in intelligence scores. Increased schooling correlates with higher intelligence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970280" y="6041880"/>
            <a:ext cx="51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o increase readiness for schoolwork,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ojects like Head Start facilitate leaning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29" name="Picture 7" descr="MyersPsy8e_11UN17c"/>
          <p:cNvPicPr/>
          <p:nvPr/>
        </p:nvPicPr>
        <p:blipFill>
          <a:blip r:embed="rId1"/>
          <a:stretch/>
        </p:blipFill>
        <p:spPr>
          <a:xfrm>
            <a:off x="1133640" y="3860640"/>
            <a:ext cx="690084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A409-96BD-4942-9FF6-DBE02DE8B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roup Differences in Intelligence Test Sc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66840" y="1676520"/>
            <a:ext cx="838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y do groups differ in intelligence? How can we make sense of these differences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2D4B-F32F-4C8B-8537-3827976C0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thnic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71400" y="30481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acial groups differ in their average intelligence scor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igh-scoring people (and groups) are more likely to attain high levels of education and incom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6840" y="16002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discuss this issue we begin with two disturbing but agreed upon facts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A8E1-7963-4315-A4F5-4C5EEC63F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3160" y="1595160"/>
            <a:ext cx="625788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Genetic and Environmental Influences on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tic Infl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nvironmental Infl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roup Differences in Intelligence Test 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Question of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9D3A-7C04-4828-8EEA-00593D37A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cial (Group)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66840" y="1600200"/>
            <a:ext cx="838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we look at racial differences, white Americans score higher in average intelligence than black Americans (Avery and others, 1994). European New Zealanders score higher than native New Zealanders (Braden, 1994)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914400" y="4406760"/>
          <a:ext cx="7315200" cy="110340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533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ite-Ame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lack-Ame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IQ =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IQ = 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41" name="Text Box 40"/>
          <p:cNvSpPr/>
          <p:nvPr/>
        </p:nvSpPr>
        <p:spPr>
          <a:xfrm>
            <a:off x="3006720" y="599436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ispanic America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Line 41"/>
          <p:cNvSpPr/>
          <p:nvPr/>
        </p:nvSpPr>
        <p:spPr>
          <a:xfrm flipV="1">
            <a:off x="4572000" y="5509800"/>
            <a:ext cx="0" cy="48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3CB4-9088-4E19-BC56-BA1C7DC2C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66840" y="1419120"/>
            <a:ext cx="8381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ferences in intelligence among these groups are largely environmental, as if one environment is more fertile in developing these abilities than another. 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246" name="Picture 20" descr="MyersPsy8e_fig"/>
          <p:cNvPicPr/>
          <p:nvPr/>
        </p:nvPicPr>
        <p:blipFill>
          <a:blip r:embed="rId1"/>
          <a:stretch/>
        </p:blipFill>
        <p:spPr>
          <a:xfrm>
            <a:off x="507960" y="3124080"/>
            <a:ext cx="81280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AA9E-21B6-4049-A72D-0CB1E3761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easons Why Environment Affects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671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ces are remarkably alike genetically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ce is a social category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sian students outperform North American students on math achievement and aptitude test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oday’s better prepared populations would outperform populations of the 1930s on intelligence tests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ite and black infants tend to score equally well on tests predicting future intelligence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fferent ethnic groups have experienced periods of remarkable achievement in different era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6D7A-9C2C-473C-B40D-D4B1244D0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66840" y="16002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re are seven ways in which males and females differ in various abiliti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57400" y="2590920"/>
          <a:ext cx="6796080" cy="4084560"/>
        </p:xfrm>
        <a:graphic>
          <a:graphicData uri="http://schemas.openxmlformats.org/drawingml/2006/table">
            <a:tbl>
              <a:tblPr/>
              <a:tblGrid>
                <a:gridCol w="6796080"/>
              </a:tblGrid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 Girls are better spel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. Girls are verbally fluent and have large vocabul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. Girls are better at locating 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. Girls are more sensitive to touch, taste, and 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. Boys outnumber girls in counts of underachie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. Boys outperform girls at math problem solving, but under perform at math comp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. Women detect emotions more easily than men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B327-3990-4315-9E55-CD1E27E8B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Question of 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ptitude tests are necessarily biased in the sense that they are sensitive to performance differences caused by cultural differenc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366840" y="3886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aptitude tests are not biased in the sense that they accurately predict performance of one group over the othe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DC28-526D-4718-98CA-41ED99DE9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ereotype Thr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51912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tereotype threa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a self-confirming concern that one will be evaluated based on a negative stereotyp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19120" y="35812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phenomenon appears in some instances in intelligence testing among African-Americans and among women of all color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C963-06A6-4767-9BEE-8FA0B58CE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o we have an inborn general mental capacity (intelligence)? If so, can we quantify this capacity as a meaningful number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BB1B-89F8-4F2C-B0BD-C0372E115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hat is Intellig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6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llig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in all cultures) is the ability to learn from experience, solve problems, and use our knowledge to adapt to new situations.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Rectangle 47"/>
          <p:cNvSpPr/>
          <p:nvPr/>
        </p:nvSpPr>
        <p:spPr>
          <a:xfrm>
            <a:off x="666720" y="4038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research studies,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whatever the intelligence test measures. This tends to be “school smarts.”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F2A8-EA84-4614-8E81-D9C45A56E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onceptual Difficul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71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sts believe that intelligence is a concept and not a thing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5800" y="34290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we think of intelligence as a trait (thing) we make an error called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reifica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— viewing an abstract immaterial concept as if it were a concrete thing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F553-2D64-4BDA-B278-4B467559A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roversies About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71400" y="1590840"/>
            <a:ext cx="7772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spite general agreement among psychologists about the nature of intelligence, two controversies remain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52320" y="3571920"/>
            <a:ext cx="77914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a single overall ability or is it several specific abilities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ith modern neuroscience techniques, can we locate and measure intelligence within the brain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dpark</cp:lastModifiedBy>
  <dcterms:modified xsi:type="dcterms:W3CDTF">2010-02-25T14:11:23Z</dcterms:modified>
  <cp:revision>1994</cp:revision>
  <dc:subject/>
  <dc:title>Memory</dc:title>
</cp:coreProperties>
</file>